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F27C7-047B-4821-A99E-13C7751DE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D7D0E-333B-47ED-A41D-A95C21387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707EA5-94C0-4633-94F7-CB021A2ABD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380E47-065A-4EA5-9260-2681EB18C0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AF2C07-0EFD-43E4-A97C-EE5692A627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A8758B-54BC-4EBB-8DC4-D070FA1906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CE08D7-7DA7-483C-8048-554A76D824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0D83DC-D7AE-4E50-A0BC-C25079424A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6075AC-52A2-4905-848F-98999D492D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19675F-D203-447D-BFEB-29808C0DB5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758691-7C1C-426C-8620-8EAA77A25A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340C0E0-BE69-411B-B128-F3F454F0322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5C3F2-6846-4331-A3BD-E7F7CF343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966BA3-54A4-47FB-8F43-1B7093038A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59A7ED-4FB2-4E1A-B7D6-EACF159091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E5D9C5-2ED0-4893-AE20-029525C22C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AEAC91-2C50-4259-9B31-E8E8BF1361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18B82A-BE13-445A-9205-E9A668D999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5CFCDA-3CA6-4269-AAAC-78922DA852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328D02-8938-44B6-A8E6-0FC961B687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1689E7-C5FB-4F4E-9984-65E14563E2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4B784F-34BB-401D-8B9A-A40AEE0594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B67F6EE-AEAB-4587-9B2F-DC21068DFC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EADD6-E176-4927-85B6-910BAA724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BFD1123-C395-4D07-991B-8513B44B5F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D6CD4B5-16EB-4558-8204-D61F873639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C14847-0199-4009-8A89-A16623D94E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D99CA5-F2DE-430A-BC36-3323CCBC32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EA030E-6ED8-49D4-8D98-855403F22D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2FFDF9-C559-40BF-AD4C-92290FA259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773CDE-7D40-456B-9414-DA68246676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CB7C1B-ED77-49FE-91FD-BD6872A906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D87A11-7AFE-4CB3-BCF3-80C742F18F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D91FEF-F728-42E7-B32E-C4E5A938FE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012C9-C568-4F5B-92D4-0F7F24722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E5D53C-069F-4A11-888A-57D24F24FB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6129F9B-6F1D-467C-9641-F9382436C2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77D083D-131E-40AD-A53B-1F9399689C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B974334-814E-49AE-A105-5F34FB79E42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3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1B619D-3ADE-4E5B-9E68-666CE4C5A0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A0565D-C12C-4D37-986D-88F688470C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195689-01B4-4532-860C-D5E2368B73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F56DEF-A7FB-4A20-B20B-980C651533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712131-CC48-4B09-BE06-E2C083452C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23AC2A-3578-4E0E-B5F9-A66A510A8B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2A197-191E-4841-8BD5-501918E06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69F19E-1866-4435-A76F-918E9EC7A3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87D611-67DE-4E24-A10F-11487482B9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5FC0A2-4FCC-4CD9-98F0-739DE05F83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75E46D7-65D9-49F8-8BAD-CD96A454DCE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6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CBC0F99-5BB4-495D-B905-741C809094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F84BE-3BC7-4E72-B143-2CF772592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B3DC8-E559-408E-B565-F1179814D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B5923-1F19-4EDE-8682-79545FE0D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828B0-90BD-4E58-A891-8EF498E95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CABCB-0B96-4F81-A319-1583125DF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A1DD5-9AA4-4D7A-BC33-0D8B51F87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5AA71-2154-4374-BAD4-5FE7BFFBA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62D68-3BDF-4F15-BEAA-88BD914A6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A57FF-15A2-4AE6-9FF3-64D9167E0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0A105-513F-41DA-AAE3-8296D6965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AD9838-8BBD-42DD-89E1-6A03A2AAE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26272B-47F4-446A-A38B-3005B12ACA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EDB167-EB0C-418F-BDBD-095D14F25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D21DE-7CF1-41EB-89CF-8C5C7C9A48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56434C-44BA-4D72-A6AB-F12504E625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0EFE16-93E6-4492-BF8C-A9FF50B2F4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BD4C3-4E7A-4475-9A3D-E782F3C1F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CA552E-E1E3-45F7-924F-EA7A1F601B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37A90-2886-42F6-9946-618A78213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D5233-8A83-4966-B3C9-503E9136F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BFAF0-6FEA-42DD-96CF-DF2C89EAE5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81CD43-B081-4F61-B4CE-AB8AC9EA75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D36771-13E0-412F-853C-661EE794F1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CAA70A-5F62-4F6E-8A24-1E5B357053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321D4CF-49E9-4916-88BA-B172AFDF086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894AE51-5944-421D-B6B9-5B636703110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59682E-F899-41E8-899F-B57ECE8F11D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7DD56-9A8B-4259-9227-FF831C397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55EDE34-9ED5-422E-82F2-2ED44568A10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ECF0DA-56EC-4BEE-99F6-2341F378AC0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D49E596-488A-45B8-9320-63437D8374F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EDF697-C619-4723-B835-25E0B304F4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6D4E1A-4FF4-40BB-9447-147C0E6A9CF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51476E-D4ED-404C-BBB2-B20A6F74CEA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E7A423D-D1D6-4FE7-A22F-B9C8D1720F4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BC720A6-8D0F-4EBC-BC77-1356E3BBD84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BF04D54-CDB9-4A4B-B789-E478184EB46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87AE6E-77CD-4ECB-A904-C8CD2F480E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AE683-307C-441A-AFFA-BE4816C60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10019B-E166-4DF4-BF7A-86DAE223A1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B69ABC-1016-46C0-A4C6-80A8C702BB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3239FF-4CF6-48CD-B6F1-412190FA02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AD5CDF-44CA-4B99-8013-135FFD5ECD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189DE3-D82F-4916-8E5B-AB22F74901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9A8B6-8F40-46C2-8590-7F3E27757E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1B1F16-FAEE-4BAF-8EBC-3FC7C8C0F2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9953AE-D402-4FC2-9ED4-172E24CDD8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785F1E-074B-4BDF-B2B8-6D041D2A46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917C44-ADDA-460E-A370-5D61B609E3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E2A12-A190-4AEC-8B9A-AC0C62765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97B5E3-7D15-4CC7-83F8-D7493DAAA6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861810D-C5AD-468D-988A-BD2435BCEC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F97BA34-9341-4ED3-894D-D8B5D69FB6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AAAC067-D323-4D5B-BEF2-5C75326D6A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0D3C435-AFF2-429C-BA8C-07673F1979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E76C414-4055-4FFE-8C24-747559C14A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D8610D7-8BA8-4346-A93F-8A6C166C65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C84FA60-6EA0-442F-BB58-26278D62AE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2A5112D-C1C4-42B4-8BB7-E063D01F33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A7D58E9-A4AB-4311-AD70-C36B8BF49E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D5497-2C0D-4D04-A2F5-A45F40410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0B639EC-0F1B-49DC-B737-D72C727EDB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BC80A96-F35F-46A8-A50D-9A7199DD57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64998F5-F2A1-42DB-8B48-3524A6A6E0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8986FCD-37AB-460C-83B0-A020C2BBB5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E5ECAD7-4592-49DA-818F-286DF896DA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4255F70-BE07-4101-9139-417A89B5E7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1357232-B486-4E50-BBB1-CF0855E2B9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A817630-67AF-405D-A460-F01B28904C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FE12FEB-A489-4F0A-B430-73957BB44F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AD5A51-D41B-4ECA-AFD1-7E8B76444C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AEA6C-29C4-49D8-A73F-6B223AEE0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E2BDC5A-280A-4171-AB1C-816E6D387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5AB2A36-4EA9-4900-A3A5-85BEB01BD4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01FEC5F-FF75-4D9A-92DA-00D06CB11E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50B16BD-7736-4F30-8386-2AB24AFFAD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F4D1E4F-48DF-414D-A03A-78E66C9329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43CC84-B5E2-48E2-89C7-61E93D03A2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6C9D3F-C83B-40A1-A945-5F295332AB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428057-78AD-43B7-89E5-6E090F9D5A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0B9C80-3744-4006-9E52-A28F6D44BB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03B501-2079-48A1-9549-6F1429A821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4E6B5-7756-4ACD-8981-661593ABA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1A1B40-CBDC-435C-9D43-0A9D4368CB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A93E59-A696-4D7A-8672-604DAC9055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2CA500-A496-4790-8C92-0A5762B2B3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6010B6-EB06-4408-B5E6-C649E6C125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4A1CBC-5C97-46DF-9332-363FB6D1A6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2FDA1B-26EB-4ACC-9B1F-22727720AF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32400C-58DE-42BE-8FA0-D4C56C7994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081B23-36C3-49DB-96ED-4A49699649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90D599-1894-425B-9426-6D647D448F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541966-C8B4-4616-9BEA-112B220B8BC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2415-C5F6-449D-AA51-59194E80E3D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736" name=""/>
          <p:cNvGrpSpPr/>
          <p:nvPr/>
        </p:nvGrpSpPr>
        <p:grpSpPr>
          <a:xfrm>
            <a:off x="318960" y="1752480"/>
            <a:ext cx="8825040" cy="5129280"/>
            <a:chOff x="318960" y="1752480"/>
            <a:chExt cx="8825040" cy="5129280"/>
          </a:xfrm>
        </p:grpSpPr>
        <p:sp>
          <p:nvSpPr>
            <p:cNvPr id="737"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740"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741"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42"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74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744" name="PlaceHolder 2"/>
          <p:cNvSpPr>
            <a:spLocks noGrp="1"/>
          </p:cNvSpPr>
          <p:nvPr>
            <p:ph type="dt" idx="28"/>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45" name="PlaceHolder 3"/>
          <p:cNvSpPr>
            <a:spLocks noGrp="1"/>
          </p:cNvSpPr>
          <p:nvPr>
            <p:ph type="ftr" idx="29"/>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46" name="PlaceHolder 4"/>
          <p:cNvSpPr>
            <a:spLocks noGrp="1"/>
          </p:cNvSpPr>
          <p:nvPr>
            <p:ph type="sldNum" idx="30"/>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87A5-2551-4C2F-B7E9-D2F6B22F44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783" name=""/>
          <p:cNvGrpSpPr/>
          <p:nvPr/>
        </p:nvGrpSpPr>
        <p:grpSpPr>
          <a:xfrm>
            <a:off x="0" y="0"/>
            <a:ext cx="7242120" cy="1981080"/>
            <a:chOff x="0" y="0"/>
            <a:chExt cx="7242120" cy="1981080"/>
          </a:xfrm>
        </p:grpSpPr>
        <p:sp>
          <p:nvSpPr>
            <p:cNvPr id="784"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78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78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9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6BBF-19F5-455D-AD23-7CECC18AA8A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27" name=""/>
          <p:cNvGrpSpPr/>
          <p:nvPr/>
        </p:nvGrpSpPr>
        <p:grpSpPr>
          <a:xfrm>
            <a:off x="0" y="0"/>
            <a:ext cx="8458200" cy="5943600"/>
            <a:chOff x="0" y="0"/>
            <a:chExt cx="8458200" cy="5943600"/>
          </a:xfrm>
        </p:grpSpPr>
        <p:sp>
          <p:nvSpPr>
            <p:cNvPr id="828"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0" name="PlaceHolder 1"/>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831" name="PlaceHolder 2"/>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832" name="PlaceHolder 3"/>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6013-97E9-4EC4-A6BC-1D2CF162A75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833"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F1D8-6406-46F2-BBCD-CCD01611DC72}"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8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0A28-95AE-42EC-A1BA-E803EBBC05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8"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24B2-F49C-430E-9019-E503520E90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9"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66" name=""/>
          <p:cNvGrpSpPr/>
          <p:nvPr/>
        </p:nvGrpSpPr>
        <p:grpSpPr>
          <a:xfrm>
            <a:off x="0" y="0"/>
            <a:ext cx="9144000" cy="6858000"/>
            <a:chOff x="0" y="0"/>
            <a:chExt cx="9144000" cy="6858000"/>
          </a:xfrm>
        </p:grpSpPr>
        <p:sp>
          <p:nvSpPr>
            <p:cNvPr id="467"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9"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0" name=""/>
          <p:cNvGrpSpPr/>
          <p:nvPr/>
        </p:nvGrpSpPr>
        <p:grpSpPr>
          <a:xfrm>
            <a:off x="0" y="6019920"/>
            <a:ext cx="7848720" cy="857160"/>
            <a:chOff x="0" y="6019920"/>
            <a:chExt cx="7848720" cy="857160"/>
          </a:xfrm>
        </p:grpSpPr>
        <p:sp>
          <p:nvSpPr>
            <p:cNvPr id="471"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2" name=""/>
            <p:cNvGrpSpPr/>
            <p:nvPr/>
          </p:nvGrpSpPr>
          <p:grpSpPr>
            <a:xfrm>
              <a:off x="3946680" y="6019920"/>
              <a:ext cx="3902040" cy="857160"/>
              <a:chOff x="3946680" y="6019920"/>
              <a:chExt cx="3902040" cy="857160"/>
            </a:xfrm>
          </p:grpSpPr>
          <p:sp>
            <p:nvSpPr>
              <p:cNvPr id="473"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8"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9" name=""/>
          <p:cNvGrpSpPr/>
          <p:nvPr/>
        </p:nvGrpSpPr>
        <p:grpSpPr>
          <a:xfrm>
            <a:off x="627120" y="6021360"/>
            <a:ext cx="5684760" cy="849240"/>
            <a:chOff x="627120" y="6021360"/>
            <a:chExt cx="5684760" cy="849240"/>
          </a:xfrm>
        </p:grpSpPr>
        <p:sp>
          <p:nvSpPr>
            <p:cNvPr id="48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48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8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9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CC98-81D9-4A66-95E1-A92A425D75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527" name=""/>
          <p:cNvGrpSpPr/>
          <p:nvPr/>
        </p:nvGrpSpPr>
        <p:grpSpPr>
          <a:xfrm>
            <a:off x="-6480" y="20520"/>
            <a:ext cx="9144000" cy="6858000"/>
            <a:chOff x="-6480" y="20520"/>
            <a:chExt cx="9144000" cy="6858000"/>
          </a:xfrm>
        </p:grpSpPr>
        <p:sp>
          <p:nvSpPr>
            <p:cNvPr id="528"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0"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1" name=""/>
          <p:cNvGrpSpPr/>
          <p:nvPr/>
        </p:nvGrpSpPr>
        <p:grpSpPr>
          <a:xfrm>
            <a:off x="-1440" y="6033960"/>
            <a:ext cx="7844400" cy="850680"/>
            <a:chOff x="-1440" y="6033960"/>
            <a:chExt cx="7844400" cy="850680"/>
          </a:xfrm>
        </p:grpSpPr>
        <p:sp>
          <p:nvSpPr>
            <p:cNvPr id="532"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3944880" y="6033960"/>
              <a:ext cx="3898080" cy="850680"/>
              <a:chOff x="3944880" y="6033960"/>
              <a:chExt cx="3898080" cy="850680"/>
            </a:xfrm>
          </p:grpSpPr>
          <p:sp>
            <p:nvSpPr>
              <p:cNvPr id="534"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9"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0" name=""/>
          <p:cNvGrpSpPr/>
          <p:nvPr/>
        </p:nvGrpSpPr>
        <p:grpSpPr>
          <a:xfrm>
            <a:off x="627120" y="6021360"/>
            <a:ext cx="5684760" cy="849240"/>
            <a:chOff x="627120" y="6021360"/>
            <a:chExt cx="5684760" cy="849240"/>
          </a:xfrm>
        </p:grpSpPr>
        <p:sp>
          <p:nvSpPr>
            <p:cNvPr id="54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548"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49"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D84F-698D-494D-8926-18121ECEC4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0"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PlaceHolder 1"/>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88" name="PlaceHolder 2"/>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7A26-BB2E-4B37-B107-EA0A751EC2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589" name=""/>
          <p:cNvGrpSpPr/>
          <p:nvPr/>
        </p:nvGrpSpPr>
        <p:grpSpPr>
          <a:xfrm>
            <a:off x="0" y="0"/>
            <a:ext cx="9140760" cy="6850080"/>
            <a:chOff x="0" y="0"/>
            <a:chExt cx="9140760" cy="6850080"/>
          </a:xfrm>
        </p:grpSpPr>
        <p:grpSp>
          <p:nvGrpSpPr>
            <p:cNvPr id="590" name=""/>
            <p:cNvGrpSpPr/>
            <p:nvPr/>
          </p:nvGrpSpPr>
          <p:grpSpPr>
            <a:xfrm>
              <a:off x="2743200" y="3540240"/>
              <a:ext cx="6392880" cy="3309840"/>
              <a:chOff x="2743200" y="3540240"/>
              <a:chExt cx="6392880" cy="3309840"/>
            </a:xfrm>
          </p:grpSpPr>
          <p:sp>
            <p:nvSpPr>
              <p:cNvPr id="591"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6"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8"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99" name="PlaceHolder 4"/>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0"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37" name=""/>
          <p:cNvGrpSpPr/>
          <p:nvPr/>
        </p:nvGrpSpPr>
        <p:grpSpPr>
          <a:xfrm>
            <a:off x="0" y="0"/>
            <a:ext cx="9140760" cy="6850080"/>
            <a:chOff x="0" y="0"/>
            <a:chExt cx="9140760" cy="6850080"/>
          </a:xfrm>
        </p:grpSpPr>
        <p:grpSp>
          <p:nvGrpSpPr>
            <p:cNvPr id="638" name=""/>
            <p:cNvGrpSpPr/>
            <p:nvPr/>
          </p:nvGrpSpPr>
          <p:grpSpPr>
            <a:xfrm>
              <a:off x="2743200" y="3540240"/>
              <a:ext cx="6392880" cy="3309840"/>
              <a:chOff x="2743200" y="3540240"/>
              <a:chExt cx="6392880" cy="3309840"/>
            </a:xfrm>
          </p:grpSpPr>
          <p:sp>
            <p:nvSpPr>
              <p:cNvPr id="639"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4"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47" name="PlaceHolder 2"/>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48" name="PlaceHolder 3"/>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49" name="PlaceHolder 4"/>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275E-5233-40DF-9B66-1789CC85EC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86" name=""/>
          <p:cNvGrpSpPr/>
          <p:nvPr/>
        </p:nvGrpSpPr>
        <p:grpSpPr>
          <a:xfrm>
            <a:off x="318960" y="1828800"/>
            <a:ext cx="8825040" cy="5029200"/>
            <a:chOff x="318960" y="1828800"/>
            <a:chExt cx="8825040" cy="5029200"/>
          </a:xfrm>
        </p:grpSpPr>
        <p:sp>
          <p:nvSpPr>
            <p:cNvPr id="687"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91"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2"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3"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94"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95"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6"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7"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F564-D324-4946-9DF3-00599735E5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699"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66ff"/>
                </a:solidFill>
                <a:latin typeface="Tahoma"/>
              </a:rPr>
              <a:t>Mi Vacacion en Espana</a:t>
            </a:r>
            <a:endParaRPr b="0" lang="en-US" sz="5400" spc="-1" strike="noStrike">
              <a:solidFill>
                <a:srgbClr val="ffffcc"/>
              </a:solidFill>
              <a:latin typeface="Tahoma"/>
            </a:endParaRPr>
          </a:p>
        </p:txBody>
      </p:sp>
      <p:sp>
        <p:nvSpPr>
          <p:cNvPr id="8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Por: Eliomar Ortiz</a:t>
            </a:r>
            <a:endParaRPr b="0" lang="en-US" sz="3200" spc="-1" strike="noStrike">
              <a:solidFill>
                <a:srgbClr val="ffffff"/>
              </a:solidFill>
              <a:latin typeface="Tahoma"/>
            </a:endParaRPr>
          </a:p>
        </p:txBody>
      </p:sp>
      <p:pic>
        <p:nvPicPr>
          <p:cNvPr id="872" name="" descr=""/>
          <p:cNvPicPr/>
          <p:nvPr/>
        </p:nvPicPr>
        <p:blipFill>
          <a:blip r:embed="rId1"/>
          <a:stretch/>
        </p:blipFill>
        <p:spPr>
          <a:xfrm>
            <a:off x="2590920" y="380880"/>
            <a:ext cx="3352680" cy="21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i Hotel</a:t>
            </a:r>
            <a:endParaRPr b="0" lang="en-US" sz="4400" spc="-1" strike="noStrike">
              <a:solidFill>
                <a:srgbClr val="ffffff"/>
              </a:solidFill>
              <a:latin typeface="Tahoma"/>
            </a:endParaRPr>
          </a:p>
        </p:txBody>
      </p:sp>
      <p:sp>
        <p:nvSpPr>
          <p:cNvPr id="87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erida Nicol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 llegue a mi hotel el AC Palacio Del Retiro. Es una hotel muy grande y elegante. </a:t>
            </a:r>
            <a:r>
              <a:rPr b="0" lang="es-ES" sz="2800" spc="-1" strike="noStrike">
                <a:solidFill>
                  <a:srgbClr val="ffffff"/>
                </a:solidFill>
                <a:latin typeface="Tahoma"/>
              </a:rPr>
              <a:t>El hotel es muy bonito y tiene muchas actividades divertidas. El hotel es muy bonito y tiene muchas actividades divertidas, como la natación y los deportes. También hay muchos platos delicioso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n fuerte abrazo,</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liomar</a:t>
            </a:r>
            <a:endParaRPr b="0" lang="en-US" sz="2800" spc="-1" strike="noStrike">
              <a:solidFill>
                <a:srgbClr val="ffffff"/>
              </a:solidFill>
              <a:latin typeface="Tahoma"/>
            </a:endParaRPr>
          </a:p>
        </p:txBody>
      </p:sp>
      <p:pic>
        <p:nvPicPr>
          <p:cNvPr id="875" name="" descr=""/>
          <p:cNvPicPr/>
          <p:nvPr/>
        </p:nvPicPr>
        <p:blipFill>
          <a:blip r:embed="rId2"/>
          <a:stretch/>
        </p:blipFill>
        <p:spPr>
          <a:xfrm>
            <a:off x="5105520" y="152280"/>
            <a:ext cx="3047760" cy="2057400"/>
          </a:xfrm>
          <a:prstGeom prst="rect">
            <a:avLst/>
          </a:prstGeom>
          <a:ln w="0">
            <a:noFill/>
          </a:ln>
        </p:spPr>
      </p:pic>
      <p:pic>
        <p:nvPicPr>
          <p:cNvPr id="876" name="" descr=""/>
          <p:cNvPicPr/>
          <p:nvPr/>
        </p:nvPicPr>
        <p:blipFill>
          <a:blip r:embed="rId3"/>
          <a:stretch/>
        </p:blipFill>
        <p:spPr>
          <a:xfrm>
            <a:off x="228600" y="5257800"/>
            <a:ext cx="48769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 Segundo Dia</a:t>
            </a:r>
            <a:endParaRPr b="0" lang="en-US" sz="4400" spc="-1" strike="noStrike">
              <a:solidFill>
                <a:srgbClr val="e3e3ff"/>
              </a:solidFill>
              <a:latin typeface="Arial"/>
            </a:endParaRPr>
          </a:p>
        </p:txBody>
      </p:sp>
      <p:sp>
        <p:nvSpPr>
          <p:cNvPr id="8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Querido Miguel</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el segundo día que visité la playa con mi familia. Fuimos el surf y la plancha de vela luego curtidos por la playa. No tomo el sol.</a:t>
            </a:r>
            <a:r>
              <a:rPr b="0" lang="en-US" sz="3200" spc="-1" strike="noStrike">
                <a:solidFill>
                  <a:srgbClr val="ffffff"/>
                </a:solidFill>
                <a:latin typeface="Arial"/>
              </a:rPr>
              <a:t>Traje protector solar y una toalla de playa. También me trajo un traje de baño para la piscina y las playa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n abras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iomar</a:t>
            </a:r>
            <a:endParaRPr b="0" lang="en-US" sz="3200" spc="-1" strike="noStrike">
              <a:solidFill>
                <a:srgbClr val="ffffff"/>
              </a:solidFill>
              <a:latin typeface="Arial"/>
            </a:endParaRPr>
          </a:p>
        </p:txBody>
      </p:sp>
      <p:pic>
        <p:nvPicPr>
          <p:cNvPr id="879" name="" descr=""/>
          <p:cNvPicPr/>
          <p:nvPr/>
        </p:nvPicPr>
        <p:blipFill>
          <a:blip r:embed="rId1"/>
          <a:stretch/>
        </p:blipFill>
        <p:spPr>
          <a:xfrm>
            <a:off x="1371600" y="5105520"/>
            <a:ext cx="3581280" cy="144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l Tercera Dia</a:t>
            </a:r>
            <a:endParaRPr b="1" lang="en-US" sz="4400" spc="-1" strike="noStrike">
              <a:solidFill>
                <a:srgbClr val="e5e5ff"/>
              </a:solidFill>
              <a:latin typeface="Garamond"/>
            </a:endParaRPr>
          </a:p>
        </p:txBody>
      </p:sp>
      <p:sp>
        <p:nvSpPr>
          <p:cNvPr id="8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Querida Mondo,</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iempo es calor y hace mucho sol. A veces hay tiempo fresco durante la noche. En el tercer día visitamos muchas tiendas y compró muchos recuerdos. Para que podamos recordar nuestra visita fantástica para España. Visitamos el museo de Guggenheim en Bilbao. La museo es muy interesante y elegante.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Un abraso,</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liomar</a:t>
            </a:r>
            <a:endParaRPr b="0" lang="en-US" sz="2800" spc="-1" strike="noStrike">
              <a:solidFill>
                <a:srgbClr val="ffffff"/>
              </a:solidFill>
              <a:latin typeface="Garamond"/>
            </a:endParaRPr>
          </a:p>
        </p:txBody>
      </p:sp>
      <p:pic>
        <p:nvPicPr>
          <p:cNvPr id="882" name="" descr=""/>
          <p:cNvPicPr/>
          <p:nvPr/>
        </p:nvPicPr>
        <p:blipFill>
          <a:blip r:embed="rId1"/>
          <a:stretch/>
        </p:blipFill>
        <p:spPr>
          <a:xfrm>
            <a:off x="7391520" y="4876920"/>
            <a:ext cx="1676160" cy="1828800"/>
          </a:xfrm>
          <a:prstGeom prst="rect">
            <a:avLst/>
          </a:prstGeom>
          <a:ln w="0">
            <a:noFill/>
          </a:ln>
        </p:spPr>
      </p:pic>
      <p:pic>
        <p:nvPicPr>
          <p:cNvPr id="883" name="" descr=""/>
          <p:cNvPicPr/>
          <p:nvPr/>
        </p:nvPicPr>
        <p:blipFill>
          <a:blip r:embed="rId2"/>
          <a:stretch/>
        </p:blipFill>
        <p:spPr>
          <a:xfrm>
            <a:off x="838080" y="4952880"/>
            <a:ext cx="3200400" cy="174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 Cuatro Dia</a:t>
            </a:r>
            <a:endParaRPr b="1" lang="en-US" sz="4400" spc="-1" strike="noStrike">
              <a:solidFill>
                <a:srgbClr val="ffffb7"/>
              </a:solidFill>
              <a:latin typeface="Arial Black"/>
            </a:endParaRPr>
          </a:p>
        </p:txBody>
      </p:sp>
      <p:sp>
        <p:nvSpPr>
          <p:cNvPr id="8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Querido Mile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el cuarto día el clima no fue tan bien que estaba lloviendo y nublado. Así que pasamos nuestro tiempo en la piscina del hotel en la piscina cubierta. También jugó en la sala de juegos. El día no fue tan malo, pero podría haber sido mejo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Un abraso,</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liom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Quinto Dia</a:t>
            </a:r>
            <a:endParaRPr b="0" lang="en-US" sz="4400" spc="-1" strike="noStrike">
              <a:solidFill>
                <a:srgbClr val="ffffcc"/>
              </a:solidFill>
              <a:latin typeface="Tahoma"/>
            </a:endParaRPr>
          </a:p>
        </p:txBody>
      </p:sp>
      <p:sp>
        <p:nvSpPr>
          <p:cNvPr id="8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 el quinto día el tiempo era fantástico. Que estaba muy caliente y muy soleado. Pasamos la mayor parte de nuestro día en la playa de Ses Illetes un muy famoso playa. Yo fui a navegar y lo pasamos muy bien. Después nos fuimos al hotel y me relajé en la bañera de hidromasaje. </a:t>
            </a:r>
            <a:endParaRPr b="0" lang="en-US" sz="3200" spc="-1" strike="noStrike">
              <a:solidFill>
                <a:srgbClr val="ffffff"/>
              </a:solidFill>
              <a:latin typeface="Tahoma"/>
            </a:endParaRPr>
          </a:p>
        </p:txBody>
      </p:sp>
      <p:pic>
        <p:nvPicPr>
          <p:cNvPr id="888" name="" descr=""/>
          <p:cNvPicPr/>
          <p:nvPr/>
        </p:nvPicPr>
        <p:blipFill>
          <a:blip r:embed="rId1"/>
          <a:stretch/>
        </p:blipFill>
        <p:spPr>
          <a:xfrm>
            <a:off x="2286000" y="5257800"/>
            <a:ext cx="4419720" cy="16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6:29:31Z</dcterms:created>
  <dc:creator>ortizeli</dc:creator>
  <dc:description/>
  <dc:language>en-US</dc:language>
  <cp:lastModifiedBy>ortizeli</cp:lastModifiedBy>
  <dcterms:modified xsi:type="dcterms:W3CDTF">2011-11-30T17:03:07Z</dcterms:modified>
  <cp:revision>5</cp:revision>
  <dc:subject/>
  <dc:title>Mi Vacacion en Espana</dc:title>
</cp:coreProperties>
</file>